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B5B2-E43C-4AFC-B226-13CF700FB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32BC-1FD6-46A2-B2A5-45DBE3426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9A3E-047F-4AAD-870E-44F4D7125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2F72-A464-46E3-A286-EBE44630E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E64A-C5AC-472F-91EE-C615CA26A7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B6C5-2446-400F-A7F4-26170ADE3F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3CB8-375A-42CB-B052-234847C342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64D0-7763-46D1-8F38-9F8A9E770A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93A2-A14F-4D0B-8F18-3E366CA282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14B4-E51A-482B-BF1F-6BA6C36C3C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102C-18DC-4C3E-A9E2-85EADD4955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F9BC-39B2-4B66-9B6C-A1743C047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50ED-15AD-4850-9321-4F51389AB5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EC58-8403-4DEF-AC97-B33F52CA47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5BF1-7418-4B22-83BD-2E8AF55AA1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4BFE-4F05-49E0-9635-E59272FD7E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8913-1C41-4C4A-9A0E-DD49808BA4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898F-F5D7-4343-8000-17558CC89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A3E3-C3CD-4F4C-A10F-FDFE94A81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C20B-9BFD-41B2-B067-C1C6597DF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FF2D-BC5F-491E-B66F-5B02F522D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8D70-67B0-466F-A5BF-C2FB8A87C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16CA-D616-4060-8E56-AD0C5BFFE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3939-BE8B-4980-AAED-BB2A2B28A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d0fe"/>
            </a:gs>
            <a:gs pos="100000">
              <a:srgbClr val="37d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53ecf3"/>
                </a:solidFill>
                <a:latin typeface="Lucida Grande"/>
              </a:rPr>
              <a:t>Click to edit the title text format</a:t>
            </a:r>
            <a:endParaRPr b="1" lang="en-US" sz="5600" spc="-1" strike="noStrike">
              <a:solidFill>
                <a:srgbClr val="53ecf3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322740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24660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49356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74052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BCD8-F8D2-40AF-9FEF-A93F33307134}" type="slidenum">
              <a: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-2476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149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424160" indent="-20988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424160" indent="-20988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424160" indent="-20988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C88A-AEC2-43B8-BD9C-45E3DC88D3F9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d0fe"/>
            </a:gs>
            <a:gs pos="100000">
              <a:srgbClr val="37d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1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53ecf3"/>
                </a:solidFill>
                <a:latin typeface="Lucida Grande"/>
              </a:rPr>
              <a:t>Gerunds &amp; Infinitives</a:t>
            </a:r>
            <a:endParaRPr b="1" lang="en-US" sz="5600" spc="-1" strike="noStrike">
              <a:solidFill>
                <a:srgbClr val="53ecf3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322740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Verb – ing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o + base verb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52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3444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What similarities and differences can you see in these sentences?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a) I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need to chang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batteries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b) The batteries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need chang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c) Do I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need to clean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my room?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d) Does my room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need clean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Need + to + base verb = it is necessary to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Need + verb-ing = needs to be done (passive)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59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What similarities and differences can you see in these sentences?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verybody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helped (to) clean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up after the party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can’t help clean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up all the time. I think I’m too fussy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My best friend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helped me (to) think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of a solution to the problem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My mother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can’t help think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bout us. She calls us every night asking how well we are coping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"/>
          <p:cNvSpPr/>
          <p:nvPr/>
        </p:nvSpPr>
        <p:spPr>
          <a:xfrm>
            <a:off x="1924560" y="3200400"/>
            <a:ext cx="5275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(I can’t stop myself from doing it.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824040" y="5905440"/>
            <a:ext cx="5783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(She can’t stop herself from doing it.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68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To summarise…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verbs that can be followed by either a gerund or an infinitive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with a difference in mean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re: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a) remember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b) forge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c) regre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d) go 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e) tr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f) need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g) help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8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Let’s recap…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marL="223200" indent="-223200">
              <a:lnSpc>
                <a:spcPct val="9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ome verbs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must be followed by a gerund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r example admit, consider, postpone etc…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-223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ome verbs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must be followed by an infinit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r example agree, decide, hope etc…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-223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ome verbs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can be followed by either a gerund or an infinitive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with </a:t>
            </a:r>
            <a:r>
              <a:rPr b="0" lang="en-US" sz="2600" spc="-1" strike="noStrike">
                <a:solidFill>
                  <a:srgbClr val="089ca2"/>
                </a:solidFill>
                <a:latin typeface="Lucida Grande"/>
              </a:rPr>
              <a:t>no difference in mean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r example: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a) I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like watch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movies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b) I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like to watch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movies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other examples are begin, start, intend, continue,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bother, etc…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95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But…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ome verbs can be followed by either a gerund or an infinitive </a:t>
            </a:r>
            <a:r>
              <a:rPr b="0" lang="en-US" sz="2600" spc="-1" strike="noStrike">
                <a:solidFill>
                  <a:srgbClr val="6600cc"/>
                </a:solidFill>
                <a:latin typeface="Lucida Grande"/>
              </a:rPr>
              <a:t>with a difference in mean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2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Let’s study these sentences. How is the meaning different?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’m absolutely sure I locked the door. I clearly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member lock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membered to lock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door when I left, but I forgot to shut the window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"/>
          <p:cNvSpPr/>
          <p:nvPr/>
        </p:nvSpPr>
        <p:spPr>
          <a:xfrm>
            <a:off x="943200" y="2819520"/>
            <a:ext cx="6098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I locked it, and now I remember this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"/>
          <p:cNvSpPr/>
          <p:nvPr/>
        </p:nvSpPr>
        <p:spPr>
          <a:xfrm>
            <a:off x="941400" y="4191120"/>
            <a:ext cx="68511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I remembered that I had to lock the door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and so I locked it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1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Some more sentences to study…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e could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member driv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long the road just before the accident happened, but he couldn’t remember the accident itself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Please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member to driv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me to the airport tomorrow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"/>
          <p:cNvSpPr/>
          <p:nvPr/>
        </p:nvSpPr>
        <p:spPr>
          <a:xfrm>
            <a:off x="1003320" y="3200400"/>
            <a:ext cx="7194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I drove and I could remember that I drove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1057680" y="4191120"/>
            <a:ext cx="6526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Don’t forget to drive me to the airport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20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So, what can we conclude?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Remember + verb-ing = You remember doing something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you have done 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Remember + to + base verb = You remember to do something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you do 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same rules apply with ‘</a:t>
            </a:r>
            <a:r>
              <a:rPr b="1" lang="en-US" sz="2600" spc="-1" strike="noStrike">
                <a:solidFill>
                  <a:srgbClr val="ff6600"/>
                </a:solidFill>
                <a:latin typeface="Lucida Grande"/>
              </a:rPr>
              <a:t>forget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’ except that </a:t>
            </a:r>
            <a:r>
              <a:rPr b="0" lang="en-US" sz="2600" spc="-1" strike="noStrike">
                <a:solidFill>
                  <a:srgbClr val="ff6600"/>
                </a:solidFill>
                <a:latin typeface="Lucida Grande"/>
              </a:rPr>
              <a:t>forget + verb-ing usually occurs in 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Lucida Grande"/>
              </a:rPr>
              <a:t>a negative sentence</a:t>
            </a:r>
            <a:r>
              <a:rPr b="0" lang="en-US" sz="2600" spc="-1" strike="noStrike">
                <a:solidFill>
                  <a:srgbClr val="ff6600"/>
                </a:solidFill>
                <a:latin typeface="Lucida Grande"/>
              </a:rPr>
              <a:t> or in 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Lucida Grande"/>
              </a:rPr>
              <a:t>a question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for example: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a) I’ll nev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forget see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he Alps for the first time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b) Can you ev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forget say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‘I love you’?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27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What about these sentences? How are they different in meaning?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230040" indent="-230040">
              <a:lnSpc>
                <a:spcPct val="9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gret say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what I said. I shouldn’t have said 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We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gret to inform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you that we are unable to offer you the job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Regret + verb-ing = I did something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before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 and now I  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am sorry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Regret + to + base verb = I have to say / tell / inform    some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bad news 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and because of this I am sorry I have to do 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34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Study these sentences. How are they different in meaning?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minister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went on talk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for two hours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fter discussing the economy, the minister then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went on to talk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bout foreign policy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" name=""/>
          <p:cNvSpPr/>
          <p:nvPr/>
        </p:nvSpPr>
        <p:spPr>
          <a:xfrm>
            <a:off x="1055160" y="2362320"/>
            <a:ext cx="7655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The minister continued doing the same thing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733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The minister continued the discussion, but talked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about something new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43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ompare these sentences.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 </a:t>
            </a:r>
            <a:r>
              <a:rPr b="0" lang="en-US" sz="2600" spc="-1" strike="noStrike">
                <a:solidFill>
                  <a:srgbClr val="ff6600"/>
                </a:solidFill>
                <a:latin typeface="Lucida Grande"/>
              </a:rPr>
              <a:t>tried to mov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table, but it was too heavy. In other words, I couldn’t move 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 didn’t like the way the furniture was arranged, so I </a:t>
            </a:r>
            <a:r>
              <a:rPr b="0" lang="en-US" sz="2600" spc="-1" strike="noStrike">
                <a:solidFill>
                  <a:srgbClr val="ff6600"/>
                </a:solidFill>
                <a:latin typeface="Lucida Grande"/>
              </a:rPr>
              <a:t>tried mov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table to the other side of the room. But it still didn’t look right, so I moved it back again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996120" y="2819520"/>
            <a:ext cx="6092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I made </a:t>
            </a:r>
            <a:r>
              <a:rPr b="1" lang="en-US" sz="2600" spc="-1" strike="noStrike">
                <a:solidFill>
                  <a:srgbClr val="ff0000"/>
                </a:solidFill>
                <a:latin typeface="Lucida Grande"/>
                <a:ea typeface="Lucida Grande"/>
              </a:rPr>
              <a:t>an effort 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to move the table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"/>
          <p:cNvSpPr/>
          <p:nvPr/>
        </p:nvSpPr>
        <p:spPr>
          <a:xfrm>
            <a:off x="1045080" y="4572000"/>
            <a:ext cx="78904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I moved the furniture as </a:t>
            </a:r>
            <a:r>
              <a:rPr b="1" lang="en-US" sz="2600" spc="-1" strike="noStrike">
                <a:solidFill>
                  <a:srgbClr val="ff0000"/>
                </a:solidFill>
                <a:latin typeface="Lucida Grande"/>
                <a:ea typeface="Lucida Grande"/>
              </a:rPr>
              <a:t>an experiment / test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0461</dc:creator>
  <dc:description/>
  <dc:language>en-US</dc:language>
  <cp:lastModifiedBy/>
  <cp:revision>0</cp:revision>
  <dc:subject/>
  <dc:title>Gerunds &amp; Infinitives</dc:title>
</cp:coreProperties>
</file>